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9d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E8E6-C0FA-4134-BBD9-3CE3C6A66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D4BE-4CDF-4140-8698-6A4B0B20C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82821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040" y="4024800"/>
            <a:ext cx="82821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6720" y="13680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3040" y="40248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6720" y="40248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266652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3120" y="1368000"/>
            <a:ext cx="266652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3560" y="1368000"/>
            <a:ext cx="266652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3040" y="4024800"/>
            <a:ext cx="266652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3120" y="4024800"/>
            <a:ext cx="266652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3560" y="4024800"/>
            <a:ext cx="266652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3040" y="1368000"/>
            <a:ext cx="828216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82821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40413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6720" y="1368000"/>
            <a:ext cx="40413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93200" y="179280"/>
            <a:ext cx="829332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720" y="1368000"/>
            <a:ext cx="40413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3040" y="40248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3040" y="1368000"/>
            <a:ext cx="828216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40413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6720" y="13680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6720" y="40248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6720" y="13680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3040" y="4024800"/>
            <a:ext cx="82821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82821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3040" y="4024800"/>
            <a:ext cx="82821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6720" y="13680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3040" y="40248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6720" y="40248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266652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3120" y="1368000"/>
            <a:ext cx="266652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3560" y="1368000"/>
            <a:ext cx="266652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3040" y="4024800"/>
            <a:ext cx="266652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3120" y="4024800"/>
            <a:ext cx="266652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3560" y="4024800"/>
            <a:ext cx="266652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82821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40413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6720" y="1368000"/>
            <a:ext cx="40413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3200" y="179280"/>
            <a:ext cx="829332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6720" y="1368000"/>
            <a:ext cx="40413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040" y="40248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40413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6720" y="13680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6720" y="40248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6720" y="1368000"/>
            <a:ext cx="40413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040" y="4024800"/>
            <a:ext cx="828216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3040" y="1368000"/>
            <a:ext cx="82821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23508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2080" indent="-1717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2080" indent="-17172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2080" indent="-17172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9d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76240" y="6446880"/>
            <a:ext cx="7846920" cy="11160"/>
          </a:xfrm>
          <a:prstGeom prst="line">
            <a:avLst/>
          </a:prstGeom>
          <a:ln w="19080">
            <a:solidFill>
              <a:srgbClr val="005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93560" y="987480"/>
            <a:ext cx="8126640" cy="144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151840" y="6453360"/>
            <a:ext cx="606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ff"/>
                </a:solidFill>
                <a:latin typeface="Arial"/>
              </a:rPr>
              <a:t>p</a:t>
            </a:r>
            <a:fld id="{BDE46233-C0AC-4E9F-825F-073C4FE6F39A}" type="slidenum">
              <a:rPr b="0" lang="en-US" sz="10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019920"/>
            <a:ext cx="762120" cy="68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68320" y="6445080"/>
            <a:ext cx="7629480" cy="12960"/>
          </a:xfrm>
          <a:prstGeom prst="line">
            <a:avLst/>
          </a:prstGeom>
          <a:ln w="19080">
            <a:solidFill>
              <a:srgbClr val="005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97040" y="141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9d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31920" y="6464160"/>
            <a:ext cx="690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59dc"/>
                </a:solidFill>
                <a:latin typeface="Arial"/>
              </a:rPr>
              <a:t>N  A  S 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01680" y="662040"/>
            <a:ext cx="6956640" cy="468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2280" y="6019920"/>
            <a:ext cx="762120" cy="687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5320" algn="ctr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11160" algn="ctr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0360" algn="ctr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0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pg.gsfc.nasa.gov/" TargetMode="External"/><Relationship Id="rId2" Type="http://schemas.openxmlformats.org/officeDocument/2006/relationships/hyperlink" Target="mailto:richard.e.ullman@nasa.gov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9dc"/>
                </a:solidFill>
                <a:latin typeface="Arial"/>
              </a:rPr>
              <a:t>NASA’s Earth Science Data Systems Standards Process Experiences</a:t>
            </a:r>
            <a:endParaRPr b="1" lang="en-US" sz="36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828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chard Ullman – NASA/GSF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g Tsou - SDSU co-ch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y 17, 20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9dc"/>
                </a:solidFill>
                <a:latin typeface="Arial"/>
              </a:rPr>
              <a:t>Case History:  Hierarchical Data Format</a:t>
            </a: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82821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acteristics of proposed standar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egrown, not adopted as standard by any other external organization, single implementation (shared software libraries), completely new implementations from spec not necessarily expec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icult to get many technical spec reviews – only one implementation so not many people had experience with implementing HDF5 from the spe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hough only one NASA funded implementation of software libraries, recently Microsoft decided to implement HDF5 in future IE version.  This was not anticipated.  So accurate spec is still import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returned reviews were about usability of HDF5 and not about the technical spec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users are exposed to HDF5 if they get data, should we ask for usability or usefulness review from user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: Still in review, status:  looking at operational readi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9dc"/>
                </a:solidFill>
                <a:latin typeface="Arial"/>
              </a:rPr>
              <a:t>Experience Summary</a:t>
            </a: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82821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Readiness is more important than Operational Experienc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else standards adoption becomes trailing ed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ty” as a starting point, is those who have experience with implementation of a particular proposed standar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her than “science discipline community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types of reviews and all reviews can be done simultaneously – some reviewers wear more than one h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ical specification re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fulness for purpose re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readi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mwork and LEADERSHIP are both importa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ties “own” what they have a hand in buil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dership is essential to provide momentu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9dc"/>
                </a:solidFill>
                <a:latin typeface="Arial"/>
              </a:rPr>
              <a:t>Focus Today:  Catalogs and Metadata Standards and Best Practices</a:t>
            </a: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82821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and Background of SPG – </a:t>
            </a:r>
            <a:r>
              <a:rPr b="1" lang="en-US" sz="2000" spc="-1" strike="noStrike">
                <a:solidFill>
                  <a:srgbClr val="0000e0"/>
                </a:solidFill>
                <a:latin typeface="Arial"/>
              </a:rPr>
              <a:t>Richard Ullma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ML – </a:t>
            </a:r>
            <a:r>
              <a:rPr b="1" lang="en-US" sz="2000" spc="-1" strike="noStrike">
                <a:solidFill>
                  <a:srgbClr val="0000e0"/>
                </a:solidFill>
                <a:latin typeface="Arial"/>
              </a:rPr>
              <a:t>Brandon Badg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O 19115 Part 1 &amp; 2 – </a:t>
            </a:r>
            <a:r>
              <a:rPr b="1" lang="en-US" sz="2000" spc="-1" strike="noStrike">
                <a:solidFill>
                  <a:srgbClr val="0000e0"/>
                </a:solidFill>
                <a:latin typeface="Arial"/>
              </a:rPr>
              <a:t>David Dank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dds &amp; CF conventions – </a:t>
            </a:r>
            <a:r>
              <a:rPr b="1" lang="en-US" sz="2000" spc="-1" strike="noStrike">
                <a:solidFill>
                  <a:srgbClr val="0000e0"/>
                </a:solidFill>
                <a:latin typeface="Arial"/>
              </a:rPr>
              <a:t>Ethan Dav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GC CS/W &amp; ebRIM – </a:t>
            </a:r>
            <a:r>
              <a:rPr b="1" lang="en-US" sz="2000" spc="-1" strike="noStrike">
                <a:solidFill>
                  <a:srgbClr val="0000e0"/>
                </a:solidFill>
                <a:latin typeface="Arial"/>
              </a:rPr>
              <a:t>Panagiotis (Peter) Vretan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SA Experiences with CS/W – </a:t>
            </a:r>
            <a:r>
              <a:rPr b="1" lang="en-US" sz="2000" spc="-1" strike="noStrike">
                <a:solidFill>
                  <a:srgbClr val="0000e0"/>
                </a:solidFill>
                <a:latin typeface="Arial"/>
              </a:rPr>
              <a:t>John Eva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CMD DIF – </a:t>
            </a:r>
            <a:r>
              <a:rPr b="1" lang="en-US" sz="2000" spc="-1" strike="noStrike">
                <a:solidFill>
                  <a:srgbClr val="0000e0"/>
                </a:solidFill>
                <a:latin typeface="Arial"/>
              </a:rPr>
              <a:t>Tyler Steve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 - Future steps for NA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9dc"/>
                </a:solidFill>
                <a:latin typeface="Arial"/>
              </a:rPr>
              <a:t>Contact Information</a:t>
            </a: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82821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SA’s Standards Process G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http://spg.gsfc.nasa.go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chard Ullm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richard.e.ullman@nasa.go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731080" y="684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9dc"/>
                </a:solidFill>
                <a:latin typeface="Arial"/>
              </a:rPr>
              <a:t>NASA’s Earth Science Data Systems Working Group, Standards Process Charter</a:t>
            </a:r>
            <a:endParaRPr b="1" lang="en-US" sz="28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82821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SA’s Standards Process Group started work in January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ise NASA decision makers on standard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imize value of NASA’s investment in Earth science data systems b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ring the cost to use the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ing the opportunities for data interuse or data interoper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ing the integration of NASA data in “communities of interest”, such as discipline commun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Strengths, Weakness, Applicability and Limitations of particular standards in the context of readiness for operational use by NASA stakeholder communit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SA-funded researchers and data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8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s of NASA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9dc"/>
                </a:solidFill>
                <a:latin typeface="Arial"/>
              </a:rPr>
              <a:t>Insights</a:t>
            </a: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82821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ility does not require homogeneous systems, but rather coordination at the interfac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communities build, they own. Communities of practice have solu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shed practices that demonstrate benefit can grow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ccessful practice in specific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ader community ado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ty-recognized “standard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d data collections to multiple uses by describing data cont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e the use of NASA data with other data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hance data docu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rease distribution barri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OSDIS Evolution 2015 Vision Tenets</a:t>
            </a: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66760" y="1270080"/>
          <a:ext cx="8510400" cy="4630680"/>
        </p:xfrm>
        <a:graphic>
          <a:graphicData uri="http://schemas.openxmlformats.org/drawingml/2006/table">
            <a:tbl>
              <a:tblPr/>
              <a:tblGrid>
                <a:gridCol w="1990800"/>
                <a:gridCol w="651960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on Te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on 2015 Go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ve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SA will ensure safe stewardship of the data through its lifetim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OS archive holdings are regularly peer reviewed for scientific meri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OS Data Interoper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and metadata streams can be seamlessly combin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and value added communities use EOS data interoperably with other relevant data and sys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ing and data are mobil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Data Access and Processing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access latency is no longer an impedime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location of data storage is irreleva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ding data is based on common search engin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s invoked by machine-machine interfac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processing provides only the data needed, the way need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interfaces and best practice standard protocols universally employ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Pedigr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hanisms to collect and preserve the pedigree of derived data products are readily availabl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systems evolve into components that allow a fine-grained control over cost driver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Community Sup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t knowledge is readily accessible to enable researchers to understand and use the dat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feedback directly to those responsible for a given system eleme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Curr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 to all EOS data through services at least as rich as any contemporary science information syste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9dc"/>
                </a:solidFill>
                <a:latin typeface="Arial"/>
              </a:rPr>
              <a:t>Standards We are Interested in</a:t>
            </a: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82821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re components (technologies practices) that if documented and more widely used would promo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sharing or exchanging of data among distributed partners and us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ed systems development and sharing of software and technical experti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ing the cost of developing or maintaining a syste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ing the use of scientific data products and bringing more fund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ility and enhancing innovation, collaboration, and computing performa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identified technologies/practices, Is there a community of use tha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experience in implementation and has demonstrated operational readi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876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leadership necessary to promote the advantage of wider u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9dc"/>
                </a:solidFill>
                <a:latin typeface="Arial"/>
              </a:rPr>
              <a:t>The Request For Comment Process</a:t>
            </a: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82821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ed after example of Internet “IETF RFC”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ilored for responsiveness to NAS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sed standards are documented as specifications according to SPG guidelines and submitted by practitioners within the NASA communit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tandards Process Group forms a Technical Working Group (TWG) to coordinate evalu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does “implementation” of this specification mean in the context of NASA Earth Science Data System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constitutes successful demonstrated  “operational readiness”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munity is invited by means of email announcement to comment on the specification and particularly to address questions formulated by the TW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WG also identifies key stakeholders that are likely to have particular experience with the technology and solicits their opin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WG reports to the SPG and the SPG makes recommendations for final status of the RF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373560" y="2777040"/>
            <a:ext cx="1236600" cy="4154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" rIns="1440" tIns="720" bIns="72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posed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106" idx="3"/>
            <a:endCxn id="107" idx="1"/>
          </p:cNvCxnSpPr>
          <p:nvPr/>
        </p:nvCxnSpPr>
        <p:spPr>
          <a:xfrm>
            <a:off x="2300040" y="1719360"/>
            <a:ext cx="578520" cy="173520"/>
          </a:xfrm>
          <a:prstGeom prst="bentConnector3">
            <a:avLst>
              <a:gd name="adj1" fmla="val 5118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9" idx="2"/>
            <a:endCxn id="110" idx="1"/>
          </p:cNvCxnSpPr>
          <p:nvPr/>
        </p:nvCxnSpPr>
        <p:spPr>
          <a:xfrm flipH="1" rot="16200000">
            <a:off x="5137920" y="4814640"/>
            <a:ext cx="1077120" cy="182628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0"/>
            <a:endCxn id="104" idx="2"/>
          </p:cNvCxnSpPr>
          <p:nvPr/>
        </p:nvCxnSpPr>
        <p:spPr>
          <a:xfrm flipV="1" rot="16200000">
            <a:off x="4161240" y="3022560"/>
            <a:ext cx="434160" cy="772560"/>
          </a:xfrm>
          <a:prstGeom prst="bentConnector3">
            <a:avLst>
              <a:gd name="adj1" fmla="val 47551"/>
            </a:avLst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892600" y="3645000"/>
            <a:ext cx="3743280" cy="1525320"/>
          </a:xfrm>
          <a:prstGeom prst="roundRect">
            <a:avLst>
              <a:gd name="adj" fmla="val 16667"/>
            </a:avLst>
          </a:prstGeom>
          <a:solidFill>
            <a:srgbClr val="cecece">
              <a:alpha val="50000"/>
            </a:srgbClr>
          </a:solidFill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" rIns="1440" tIns="720" bIns="7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munity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13" idx="3"/>
            <a:endCxn id="114" idx="1"/>
          </p:cNvCxnSpPr>
          <p:nvPr/>
        </p:nvCxnSpPr>
        <p:spPr>
          <a:xfrm>
            <a:off x="4844880" y="4611240"/>
            <a:ext cx="354960" cy="180360"/>
          </a:xfrm>
          <a:prstGeom prst="bentConnector3">
            <a:avLst>
              <a:gd name="adj1" fmla="val 49949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5199120" y="4594320"/>
            <a:ext cx="1219320" cy="390600"/>
          </a:xfrm>
          <a:prstGeom prst="roundRect">
            <a:avLst>
              <a:gd name="adj" fmla="val 16667"/>
            </a:avLst>
          </a:prstGeom>
          <a:solidFill>
            <a:srgbClr val="6600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" rIns="1440" tIns="720" bIns="72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commen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6600" y="4425840"/>
            <a:ext cx="489240" cy="2350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" rIns="1440" tIns="720" bIns="72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21080" y="4197240"/>
            <a:ext cx="1423800" cy="827280"/>
          </a:xfrm>
          <a:prstGeom prst="roundRect">
            <a:avLst>
              <a:gd name="adj" fmla="val 16667"/>
            </a:avLst>
          </a:prstGeom>
          <a:solidFill>
            <a:srgbClr val="6600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" rIns="1440" tIns="720" bIns="72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valuate Proposed Standard Implementations and Community Respon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16400" y="4051440"/>
            <a:ext cx="447840" cy="2142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" rIns="1440" tIns="720" bIns="72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90960" y="4051440"/>
            <a:ext cx="1136520" cy="392040"/>
          </a:xfrm>
          <a:prstGeom prst="roundRect">
            <a:avLst>
              <a:gd name="adj" fmla="val 16667"/>
            </a:avLst>
          </a:prstGeom>
          <a:solidFill>
            <a:srgbClr val="6600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" rIns="1440" tIns="720" bIns="72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Evaluate Proposed Standa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30640" y="3894120"/>
            <a:ext cx="1085760" cy="219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" rIns="1440" tIns="720" bIns="72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2600" y="1363680"/>
            <a:ext cx="3743280" cy="1055520"/>
          </a:xfrm>
          <a:prstGeom prst="roundRect">
            <a:avLst>
              <a:gd name="adj" fmla="val 16667"/>
            </a:avLst>
          </a:prstGeom>
          <a:solidFill>
            <a:srgbClr val="cecece">
              <a:alpha val="50000"/>
            </a:srgbClr>
          </a:solidFill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" rIns="144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itial Scre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itial review of the RF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vide RFC submission suppo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m TWG; se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89800" y="6058440"/>
            <a:ext cx="1236600" cy="4154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" rIns="1440" tIns="720" bIns="72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commended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3800" y="1620000"/>
            <a:ext cx="1236600" cy="2088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" rIns="1440" tIns="720" bIns="72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F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3560" y="3029040"/>
            <a:ext cx="219888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view Ques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chnical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perational Read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itability for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2811600"/>
            <a:ext cx="585720" cy="2808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" rIns="1440" tIns="720" bIns="72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94160" y="1117440"/>
            <a:ext cx="679680" cy="327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" rIns="1440" tIns="720" bIns="72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9" idx="2"/>
            <a:endCxn id="109" idx="1"/>
          </p:cNvCxnSpPr>
          <p:nvPr/>
        </p:nvCxnSpPr>
        <p:spPr>
          <a:xfrm flipH="1" rot="16200000">
            <a:off x="1987200" y="3522960"/>
            <a:ext cx="491400" cy="1280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4898880" y="2777040"/>
            <a:ext cx="1236960" cy="4154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" rIns="1440" tIns="720" bIns="72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chn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3" idx="2"/>
            <a:endCxn id="109" idx="0"/>
          </p:cNvCxnSpPr>
          <p:nvPr/>
        </p:nvCxnSpPr>
        <p:spPr>
          <a:xfrm rot="5400000">
            <a:off x="4923720" y="3032280"/>
            <a:ext cx="434160" cy="754560"/>
          </a:xfrm>
          <a:prstGeom prst="bentConnector3">
            <a:avLst>
              <a:gd name="adj1" fmla="val 519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6589800" y="5536080"/>
            <a:ext cx="1236600" cy="4154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" rIns="1440" tIns="720" bIns="72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chn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09" idx="2"/>
            <a:endCxn id="125" idx="1"/>
          </p:cNvCxnSpPr>
          <p:nvPr/>
        </p:nvCxnSpPr>
        <p:spPr>
          <a:xfrm flipH="1" rot="16200000">
            <a:off x="5398920" y="4553280"/>
            <a:ext cx="554760" cy="1826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6645240" y="2764800"/>
            <a:ext cx="1236600" cy="2084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" rIns="1440" tIns="720" bIns="72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66040" y="5166720"/>
            <a:ext cx="1236600" cy="2084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" rIns="1440" tIns="720" bIns="72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7" idx="2"/>
            <a:endCxn id="127" idx="0"/>
          </p:cNvCxnSpPr>
          <p:nvPr/>
        </p:nvCxnSpPr>
        <p:spPr>
          <a:xfrm flipH="1" rot="16200000">
            <a:off x="5850000" y="1350000"/>
            <a:ext cx="329040" cy="2499480"/>
          </a:xfrm>
          <a:prstGeom prst="bentConnector3">
            <a:avLst>
              <a:gd name="adj1" fmla="val 475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09" idx="2"/>
            <a:endCxn id="128" idx="1"/>
          </p:cNvCxnSpPr>
          <p:nvPr/>
        </p:nvCxnSpPr>
        <p:spPr>
          <a:xfrm flipH="1" rot="16200000">
            <a:off x="5622120" y="4330440"/>
            <a:ext cx="84960" cy="1802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07" idx="2"/>
            <a:endCxn id="104" idx="0"/>
          </p:cNvCxnSpPr>
          <p:nvPr/>
        </p:nvCxnSpPr>
        <p:spPr>
          <a:xfrm rot="5400000">
            <a:off x="4212720" y="2212920"/>
            <a:ext cx="330840" cy="775440"/>
          </a:xfrm>
          <a:prstGeom prst="bentConnector3">
            <a:avLst>
              <a:gd name="adj1" fmla="val 474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07" idx="2"/>
            <a:endCxn id="123" idx="0"/>
          </p:cNvCxnSpPr>
          <p:nvPr/>
        </p:nvCxnSpPr>
        <p:spPr>
          <a:xfrm flipH="1" rot="16200000">
            <a:off x="4975920" y="2224440"/>
            <a:ext cx="330840" cy="751680"/>
          </a:xfrm>
          <a:prstGeom prst="bentConnector3">
            <a:avLst>
              <a:gd name="adj1" fmla="val 474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9dc"/>
                </a:solidFill>
                <a:latin typeface="Arial"/>
              </a:rPr>
              <a:t>The RFC review process</a:t>
            </a: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9dc"/>
                </a:solidFill>
                <a:latin typeface="Arial"/>
              </a:rPr>
              <a:t>Case History:  Data Access Protocol (DAP)</a:t>
            </a: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82821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cteristics of OPeNDAP’s DAP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grown” standard, not adopted by any de rigueur standards organization, new implementations from scratch are expec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run - Standards Process worked w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ive community - many supportive reviews for technical specification and operational experien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s were painless for the SPG to g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DAP community very cohesive and engag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ong leadership from both the OPeNDAP Group and key community us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 successful in “getting out the vot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 responsive in correcting “errors” in the specif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: Recommended Endorsement of DA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3200" y="179280"/>
            <a:ext cx="82933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9dc"/>
                </a:solidFill>
                <a:latin typeface="Arial"/>
              </a:rPr>
              <a:t>Case History:  OGC Web Map Server</a:t>
            </a:r>
            <a:endParaRPr b="1" lang="en-US" sz="3200" spc="-1" strike="noStrike">
              <a:solidFill>
                <a:srgbClr val="0059d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3040" y="1368000"/>
            <a:ext cx="828216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7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cteristics of proposed standar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ready approved by OGC &amp; ISO as standard, new implementations from scratch are expec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icult to get many technical spec reviews;  reviewers wondered why we are asking for a spec review when it was already an international stand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7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a spec review important for a spec that has been exhaustively vetted by the OGC and IS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222120">
              <a:lnSpc>
                <a:spcPct val="7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s of operational experience also difficu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7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experience” means something very specific in the NASA worl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7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f the reviewers mentioned that they were serving hundreds of users each day with thousands of accesses to images – but didn’t consider themselves operational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040" indent="-171720">
              <a:lnSpc>
                <a:spcPct val="7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clearly, WMS could be used in operational environment based on actual number of users, data volumes, and hours of daily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:  Recommended endorsement of W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0T19:24:33Z</dcterms:created>
  <dc:creator>conovht</dc:creator>
  <dc:description/>
  <dc:language>en-US</dc:language>
  <cp:lastModifiedBy>Richard Ullman</cp:lastModifiedBy>
  <dcterms:modified xsi:type="dcterms:W3CDTF">2007-07-17T13:41:36Z</dcterms:modified>
  <cp:revision>72</cp:revision>
  <dc:subject/>
  <dc:title>RFCs for HDF5 and HDF-EOS5 Status Upd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61497076</vt:r8>
  </property>
  <property fmtid="{D5CDD505-2E9C-101B-9397-08002B2CF9AE}" pid="3" name="_AuthorEmail">
    <vt:lpwstr>yonsook@mindspring.com</vt:lpwstr>
  </property>
  <property fmtid="{D5CDD505-2E9C-101B-9397-08002B2CF9AE}" pid="4" name="_AuthorEmailDisplayName">
    <vt:lpwstr>Yonsook Enloe</vt:lpwstr>
  </property>
  <property fmtid="{D5CDD505-2E9C-101B-9397-08002B2CF9AE}" pid="5" name="_EmailSubject">
    <vt:lpwstr>1st draft EGU slides</vt:lpwstr>
  </property>
</Properties>
</file>